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29A-3306-4D34-9E38-7EA68E31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5E5-042A-42E4-BFD6-F38DAAA0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065-D100-46D0-A8A4-320B0EA5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7EF-3433-4CB8-BF19-00036838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1B3-04A4-489A-ADD9-A9BF9830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D20-BAB2-47A7-AC1A-516A4265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335-4925-489A-ACEA-84D0885D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532-B19E-4F95-871A-728B496F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BF5-6933-4795-8CE3-89BB3994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985-521B-4209-8250-D923E4D2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2AA-4706-4E56-BF3F-6BE35C3E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190-E24B-44C6-83C9-5923A24B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C4DE-73C3-4AD8-B514-AD86BCA5D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18960" y="2252520"/>
            <a:ext cx="850608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ЗО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18960" y="4695840"/>
            <a:ext cx="8506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АФР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0" y="154080"/>
            <a:ext cx="91440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ПРИРОД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66"/>
                </a:solidFill>
                <a:latin typeface="Arial Black"/>
              </a:rPr>
              <a:t>Природная зона - крупный природный комплекс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82844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бразование прир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он обусловлено климат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иротная зональность-изменение природных зон на равнин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риродные зоны Аф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600200"/>
          <a:ext cx="9144000" cy="4525920"/>
        </p:xfrm>
        <a:graphic>
          <a:graphicData uri="http://schemas.openxmlformats.org/drawingml/2006/table">
            <a:tbl>
              <a:tblPr/>
              <a:tblGrid>
                <a:gridCol w="2085840"/>
                <a:gridCol w="2005200"/>
                <a:gridCol w="1363680"/>
                <a:gridCol w="1203120"/>
                <a:gridCol w="248616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ая зо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ич. поя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и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ительного и живот, мир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краткий вывод, что представляет собой природная з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ть мини-сочинение на одну из предложенных 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о влажном экваториальном лес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саван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тропической пусты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1-20T09:56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